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867-1E5C-4242-9F37-EEEB0518C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4D1-7347-41F1-8729-8EEFEB5E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80F0-B867-4B80-8AEF-BBD2EE30F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egiovascodagama.pt/ciencias3c/onze/biologiaunidade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9E0-9BB7-4BBD-BC76-F06C06977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8E3-0889-42F5-8215-54921474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AF94-6775-4241-B590-1815D45B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4369-1D2D-4817-85C8-B4343A52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worldnews.com/articles/7407/20140604/pigs-successful-hosts-of-transplanted-stem-cel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CF03-8195-4FEC-92A7-97FB84CF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yretiring2.blogspot.ca/2010_06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6C2-7AC4-45F3-B2C9-60C3E991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8AA8-F717-4763-866B-9E29D2B6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m.on.ca/en/blog/mighty-burgess-shale-fossil-site-discovered-in-kootenay-national-p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7B5-DC2C-4A09-B52E-233B67AD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B10-2AC1-42FF-8666-A84A81215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ritagedaily.com/2015/09/testing-the-fossil-record/1084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A4F-4100-4E04-9F0E-97784C3D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867-775F-4189-9014-50CFE965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DF9-20B8-425F-812F-07873B8B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FAD-7AC7-47DB-8C61-616E237D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753-B19A-46D0-852E-BAE058B4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94C-48E4-47EF-9037-8F9754D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E1A-0B33-49FE-A8C2-97FDADC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8E2-6EAC-41DB-BC10-7BABD1A9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9BE-0EC2-43D6-B99F-A39D1CFF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79F-51F0-444C-BF7E-7D6829B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D13-284D-4BFB-A2EF-3687065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2CC-D72A-4452-980C-1C895AA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2E6-56EC-40C3-BB55-0C84C0D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C5F5-48EB-4AA0-AC3F-316F60C9E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astro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vier believed that species had not changed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ggested that a ser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astrop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caused widespread exti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5" descr="72-Darwin-6.jpg"/>
          <p:cNvPicPr/>
          <p:nvPr/>
        </p:nvPicPr>
        <p:blipFill>
          <a:blip r:embed="rId1"/>
          <a:srcRect l="0" t="-30200" r="0" b="-30200"/>
          <a:stretch/>
        </p:blipFill>
        <p:spPr>
          <a:xfrm>
            <a:off x="0" y="1268280"/>
            <a:ext cx="914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Lyell (British lawyer &amp; geologist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ecause it suggested that the Earth was very old &amp; that slow processes could result in large changes such as formation of mountain r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the Earth &amp; all living things had been created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scientist Georges-Louis Leclerc, Comte de Buffon wondered about the extra toes on 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g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l Linnaeus &amp; Erasmus Darwin (Charl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ndfather) proposed that living organisms had changed over time, but didn’t know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olution was proposed by Jean-Baptiste Pierre Antoine de Monet, Chevalier de Lamar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’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d dis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5" descr="dim.gif"/>
          <p:cNvPicPr/>
          <p:nvPr/>
        </p:nvPicPr>
        <p:blipFill>
          <a:blip r:embed="rId1"/>
          <a:srcRect l="-13027" t="0" r="-1302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iraffe_lamark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when dead organisms are mine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onditions are low-oxygen &amp; aquatic (sediment is continually depos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new_arthropod_rom_62976.jpg"/>
          <p:cNvPicPr/>
          <p:nvPr/>
        </p:nvPicPr>
        <p:blipFill>
          <a:blip r:embed="rId1"/>
          <a:srcRect l="0" t="-30990" r="0" b="-3099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 Record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ssils are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fossils of most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very deep below the Earth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s Cuv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ontologist, in his detailed studies of fossils he obser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organisms found throughout, but complex only in shallower layers; shallow organisms resemble living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layers contain unique species that do not occur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8-02-22T17:11:39Z</dcterms:modified>
  <cp:revision>93</cp:revision>
  <dc:subject/>
  <dc:title>PowerPoint Presentation</dc:title>
</cp:coreProperties>
</file>